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5F40-59BB-4CE5-88AF-BC9556B3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413F-DACA-488D-97BE-DB37FD7A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35D0-F6F1-4787-9A8E-025FF8377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4525-B288-4C40-8B94-53D1E471D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E13C-C052-44DA-B957-3B960D423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E8F3-8507-4981-B126-F5579B24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4EAD-22EE-4CBE-97BF-7174C0F8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8129-E80B-4B81-9DBB-03F09FD0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BF50-9950-41D6-B79F-E988A1EA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2E2E-72FD-4499-B79F-9FC03006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86B5-5F55-4D3C-B01F-476D62D9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A700-C98E-4601-8597-A9297C88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4F3A-A074-4259-AE2C-B33BFE17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7C49-1416-46BB-9A0F-5DC1F8F3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6408-35A8-4A13-A2C3-94F51800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D0F9-F4EE-4682-9723-81F631462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3203-E5B2-40B1-BC54-70A632602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168C7-8B46-4E95-A9ED-EC790F7D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3092A-2409-4270-BD13-8F49B5FD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D1052-DE35-42D8-BA60-1F800367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615EE-77C5-4EC8-8537-E7D038C5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08B31-0E4B-4068-89D9-DA83F157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D332-68BA-4504-9316-F237CB5B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D4D4D-F2E5-489A-AA67-BE6750C0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57962-2C1C-4EBF-A6C7-596EDB61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D5351-2496-4ABF-BF00-08A1FB7D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1B1A5-C915-4D73-AB9A-CE93FED7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22808-954A-4DFD-8161-90FD8E3C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CEB65-5CCA-48F1-B7A1-4B5922AC1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9E504-4433-432F-976F-2A7DC29A2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7EF3B-2F82-40E2-8B07-2FF37D244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072EE-E366-48EE-8A61-6AC424B0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4980D-3C66-475C-9525-9765F6F9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CF9C-F280-4B2B-BCB3-9F960DE3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B1D64-DDBF-4A80-8361-9FFF500D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BCAA2-B5F9-4D7B-9417-A125271C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6789F-0A93-4444-99CE-1F5E74A2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142AF-80C5-4099-B956-72E90B9B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D4C4A-A256-4C22-915E-5A4BA443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18178-CF12-4890-83FD-1A361ADB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D5C50-2BF8-4475-B711-DCEE1160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D2D4F-FB40-48B5-A93C-3D9186FDE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DD7FC-4299-439D-B72D-632C4CF2A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1713-C348-4315-A03A-B0E34032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BCD2-DF5B-4173-BF2F-EE1E0359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7CE1-4E6D-444C-8758-D1DA3664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B4B1-43DF-43A2-BDD0-72EBEE4E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6416-5A1A-4CEB-9AFE-48AF5C8D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7.png"/><Relationship Id="rId12" Type="http://schemas.openxmlformats.org/officeDocument/2006/relationships/image" Target="../media/image5.jpe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8.pn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25.xml"/><Relationship Id="rId17" Type="http://schemas.openxmlformats.org/officeDocument/2006/relationships/slideLayout" Target="../slideLayouts/slideLayout26.xml"/><Relationship Id="rId18" Type="http://schemas.openxmlformats.org/officeDocument/2006/relationships/slideLayout" Target="../slideLayouts/slideLayout27.xml"/><Relationship Id="rId19" Type="http://schemas.openxmlformats.org/officeDocument/2006/relationships/slideLayout" Target="../slideLayouts/slideLayout28.xml"/><Relationship Id="rId20" Type="http://schemas.openxmlformats.org/officeDocument/2006/relationships/slideLayout" Target="../slideLayouts/slideLayout29.xml"/><Relationship Id="rId21" Type="http://schemas.openxmlformats.org/officeDocument/2006/relationships/slideLayout" Target="../slideLayouts/slideLayout30.xml"/><Relationship Id="rId22" Type="http://schemas.openxmlformats.org/officeDocument/2006/relationships/slideLayout" Target="../slideLayouts/slideLayout31.xml"/><Relationship Id="rId23" Type="http://schemas.openxmlformats.org/officeDocument/2006/relationships/slideLayout" Target="../slideLayouts/slideLayout32.xml"/><Relationship Id="rId24" Type="http://schemas.openxmlformats.org/officeDocument/2006/relationships/slideLayout" Target="../slideLayouts/slideLayout33.xml"/><Relationship Id="rId25" Type="http://schemas.openxmlformats.org/officeDocument/2006/relationships/slideLayout" Target="../slideLayouts/slideLayout34.xml"/><Relationship Id="rId26" Type="http://schemas.openxmlformats.org/officeDocument/2006/relationships/slideLayout" Target="../slideLayouts/slideLayout35.xml"/><Relationship Id="rId2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8.pn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37.xml"/><Relationship Id="rId17" Type="http://schemas.openxmlformats.org/officeDocument/2006/relationships/slideLayout" Target="../slideLayouts/slideLayout38.xml"/><Relationship Id="rId18" Type="http://schemas.openxmlformats.org/officeDocument/2006/relationships/slideLayout" Target="../slideLayouts/slideLayout39.xml"/><Relationship Id="rId19" Type="http://schemas.openxmlformats.org/officeDocument/2006/relationships/slideLayout" Target="../slideLayouts/slideLayout40.xml"/><Relationship Id="rId20" Type="http://schemas.openxmlformats.org/officeDocument/2006/relationships/slideLayout" Target="../slideLayouts/slideLayout41.xml"/><Relationship Id="rId21" Type="http://schemas.openxmlformats.org/officeDocument/2006/relationships/slideLayout" Target="../slideLayouts/slideLayout42.xml"/><Relationship Id="rId22" Type="http://schemas.openxmlformats.org/officeDocument/2006/relationships/slideLayout" Target="../slideLayouts/slideLayout43.xml"/><Relationship Id="rId23" Type="http://schemas.openxmlformats.org/officeDocument/2006/relationships/slideLayout" Target="../slideLayouts/slideLayout44.xml"/><Relationship Id="rId24" Type="http://schemas.openxmlformats.org/officeDocument/2006/relationships/slideLayout" Target="../slideLayouts/slideLayout45.xml"/><Relationship Id="rId25" Type="http://schemas.openxmlformats.org/officeDocument/2006/relationships/slideLayout" Target="../slideLayouts/slideLayout46.xml"/><Relationship Id="rId26" Type="http://schemas.openxmlformats.org/officeDocument/2006/relationships/slideLayout" Target="../slideLayouts/slideLayout47.xml"/><Relationship Id="rId2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03030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EBD4-71AC-421B-B743-4E831A0F645A}" type="slidenum">
              <a:rPr b="0" lang="ru-RU" sz="1400" spc="-1" strike="noStrike">
                <a:solidFill>
                  <a:srgbClr val="303030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70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71" name="Rectangle 7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3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74" name="Rectangle 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76" name="Freeform 9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77" name="Freeform 9" descr=""/>
            <p:cNvPicPr/>
            <p:nvPr/>
          </p:nvPicPr>
          <p:blipFill>
            <a:blip r:embed="rId11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2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9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12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" name="Picture 2" descr="C:\Users\Administrator\Desktop\Pushpin Dev\Assets\pushpinLeft.png"/>
          <p:cNvPicPr/>
          <p:nvPr/>
        </p:nvPicPr>
        <p:blipFill>
          <a:blip r:embed="rId13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Administrator\Desktop\Pushpin Dev\Assets\pushpinLeft.png"/>
          <p:cNvPicPr/>
          <p:nvPr/>
        </p:nvPicPr>
        <p:blipFill>
          <a:blip r:embed="rId14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03030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EA77-B5E9-4515-A384-324ABC33D1F9}" type="slidenum">
              <a:rPr b="0" lang="ru-RU" sz="1400" spc="-1" strike="noStrike">
                <a:solidFill>
                  <a:srgbClr val="303030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25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26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8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29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31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132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4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39" name="Rectangle 8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40" name="Rectangle 8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42" name="Rectangle 9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43" name="Rectangle 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45" name="Freeform 10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146" name="Freeform 10" descr=""/>
            <p:cNvPicPr/>
            <p:nvPr/>
          </p:nvPicPr>
          <p:blipFill>
            <a:blip r:embed="rId11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12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13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" descr="C:\Users\Administrator\Desktop\Pushpin Dev\Assets\pushpinLeft.png"/>
          <p:cNvPicPr/>
          <p:nvPr/>
        </p:nvPicPr>
        <p:blipFill>
          <a:blip r:embed="rId14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C:\Users\Administrator\Desktop\Pushpin Dev\Assets\pushpinLeft.png"/>
          <p:cNvPicPr/>
          <p:nvPr/>
        </p:nvPicPr>
        <p:blipFill>
          <a:blip r:embed="rId15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03030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30D9-3817-455A-992A-F2839010FDCD}" type="slidenum">
              <a:rPr b="0" lang="ru-RU" sz="1400" spc="-1" strike="noStrike">
                <a:solidFill>
                  <a:srgbClr val="303030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6"/>
    <p:sldLayoutId id="2147483676" r:id="rId17"/>
    <p:sldLayoutId id="2147483677" r:id="rId18"/>
    <p:sldLayoutId id="2147483678" r:id="rId19"/>
    <p:sldLayoutId id="2147483679" r:id="rId20"/>
    <p:sldLayoutId id="2147483680" r:id="rId21"/>
    <p:sldLayoutId id="2147483681" r:id="rId22"/>
    <p:sldLayoutId id="2147483682" r:id="rId23"/>
    <p:sldLayoutId id="2147483683" r:id="rId24"/>
    <p:sldLayoutId id="2147483684" r:id="rId25"/>
    <p:sldLayoutId id="2147483685" r:id="rId26"/>
    <p:sldLayoutId id="2147483686" r:id="rId2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96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9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20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2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203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5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grpSp>
        <p:nvGrpSpPr>
          <p:cNvPr id="209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10" name="Rectangle 8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211" name="Rectangle 8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3" name="Rectangle 9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214" name="Rectangle 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16" name="Freeform 30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217" name="Freeform 30" descr=""/>
            <p:cNvPicPr/>
            <p:nvPr/>
          </p:nvPicPr>
          <p:blipFill>
            <a:blip r:embed="rId11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9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12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13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3" name="Picture 2" descr="C:\Users\Administrator\Desktop\Pushpin Dev\Assets\pushpinLeft.png"/>
          <p:cNvPicPr/>
          <p:nvPr/>
        </p:nvPicPr>
        <p:blipFill>
          <a:blip r:embed="rId14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C:\Users\Administrator\Desktop\Pushpin Dev\Assets\pushpinLeft.png"/>
          <p:cNvPicPr/>
          <p:nvPr/>
        </p:nvPicPr>
        <p:blipFill>
          <a:blip r:embed="rId15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03030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A4E8-09AF-43B7-869C-F4A8C37A19D9}" type="slidenum">
              <a:rPr b="0" lang="ru-RU" sz="1400" spc="-1" strike="noStrike">
                <a:solidFill>
                  <a:srgbClr val="303030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6"/>
    <p:sldLayoutId id="2147483689" r:id="rId17"/>
    <p:sldLayoutId id="2147483690" r:id="rId18"/>
    <p:sldLayoutId id="2147483691" r:id="rId19"/>
    <p:sldLayoutId id="2147483692" r:id="rId20"/>
    <p:sldLayoutId id="2147483693" r:id="rId21"/>
    <p:sldLayoutId id="2147483694" r:id="rId22"/>
    <p:sldLayoutId id="2147483695" r:id="rId23"/>
    <p:sldLayoutId id="2147483696" r:id="rId24"/>
    <p:sldLayoutId id="2147483697" r:id="rId25"/>
    <p:sldLayoutId id="2147483698" r:id="rId26"/>
    <p:sldLayoutId id="2147483699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5"/>
          <p:cNvSpPr/>
          <p:nvPr/>
        </p:nvSpPr>
        <p:spPr>
          <a:xfrm>
            <a:off x="900000" y="1214280"/>
            <a:ext cx="7543800" cy="3070440"/>
          </a:xfrm>
          <a:prstGeom prst="rect">
            <a:avLst/>
          </a:prstGeom>
          <a:noFill/>
          <a:ln w="0">
            <a:noFill/>
          </a:ln>
          <a:effectLst>
            <a:outerShdw dist="99192" dir="19218056" blurRad="0" rotWithShape="0">
              <a:srgbClr val="dede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Упражнение в написании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слов с буквами </a:t>
            </a:r>
            <a:r>
              <a:rPr b="1" i="1" lang="ru-RU" sz="4400" spc="-1" strike="noStrike">
                <a:solidFill>
                  <a:srgbClr val="ff0000"/>
                </a:solidFill>
                <a:latin typeface="Constantia"/>
              </a:rPr>
              <a:t>и, у, а</a:t>
            </a:r>
            <a:r>
              <a:rPr b="1" lang="ru-RU" sz="4400" spc="-1" strike="noStrike">
                <a:solidFill>
                  <a:srgbClr val="ff0000"/>
                </a:solidFill>
                <a:latin typeface="Constantia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после шипящи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900000" y="4005360"/>
            <a:ext cx="705672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7320" y="260280"/>
            <a:ext cx="377640" cy="45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nstantia"/>
              </a:rPr>
              <a:t>заяц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2714760" y="2143080"/>
            <a:ext cx="3590640" cy="4040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nstantia"/>
              </a:rPr>
              <a:t>белка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9" name="Picture 7" descr="belka"/>
          <p:cNvPicPr/>
          <p:nvPr/>
        </p:nvPicPr>
        <p:blipFill>
          <a:blip r:embed="rId1"/>
          <a:stretch/>
        </p:blipFill>
        <p:spPr>
          <a:xfrm>
            <a:off x="2571840" y="1797120"/>
            <a:ext cx="3857400" cy="4386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nstantia"/>
              </a:rPr>
              <a:t>медведь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1" name="Picture 6" descr="476"/>
          <p:cNvPicPr/>
          <p:nvPr/>
        </p:nvPicPr>
        <p:blipFill>
          <a:blip r:embed="rId1"/>
          <a:stretch/>
        </p:blipFill>
        <p:spPr>
          <a:xfrm>
            <a:off x="2670120" y="1895400"/>
            <a:ext cx="3616560" cy="424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nstantia"/>
              </a:rPr>
              <a:t>волк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3" name="Picture 3" descr="волк"/>
          <p:cNvPicPr/>
          <p:nvPr/>
        </p:nvPicPr>
        <p:blipFill>
          <a:blip r:embed="rId1"/>
          <a:stretch/>
        </p:blipFill>
        <p:spPr>
          <a:xfrm>
            <a:off x="2643120" y="1882800"/>
            <a:ext cx="3571920" cy="440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402920" y="1665000"/>
            <a:ext cx="30243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ц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дь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811760" y="1708200"/>
            <a:ext cx="369576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й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ь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жат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1403280" y="260280"/>
            <a:ext cx="75596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   -   ДЕТЁНЫ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Ш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4103640" y="4040280"/>
            <a:ext cx="3240000" cy="16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то нового вы узнали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Что вы считаете нужным запомнить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ад чем ещё надо поработать?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За что ты себя можешь похвалить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Что на ваш взгляд не удалось? Почему? Что учесть на будущее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95120" y="1065240"/>
            <a:ext cx="69642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егодня на уроке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920880" y="3228480"/>
            <a:ext cx="4225680" cy="18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10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ушк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48040" indent="-248040">
              <a:lnSpc>
                <a:spcPct val="10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лея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48040" indent="-248040">
              <a:lnSpc>
                <a:spcPct val="10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алинк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48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920880" y="765000"/>
            <a:ext cx="7488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ется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стой лес, заросли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1" name="Picture 6" descr="Картинка 10 из 25979"/>
          <p:cNvPicPr/>
          <p:nvPr/>
        </p:nvPicPr>
        <p:blipFill>
          <a:blip r:embed="rId1"/>
          <a:stretch/>
        </p:blipFill>
        <p:spPr>
          <a:xfrm>
            <a:off x="3859200" y="2219400"/>
            <a:ext cx="4503600" cy="35780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3"/>
          <p:cNvSpPr/>
          <p:nvPr/>
        </p:nvSpPr>
        <p:spPr>
          <a:xfrm>
            <a:off x="936720" y="2565360"/>
            <a:ext cx="4225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9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2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5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1600200" y="2336400"/>
            <a:ext cx="760896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5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158040" indent="-158040">
              <a:lnSpc>
                <a:spcPct val="9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158040" indent="-158040">
              <a:lnSpc>
                <a:spcPct val="9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158040" indent="-158040">
              <a:lnSpc>
                <a:spcPct val="9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158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928800" y="765000"/>
            <a:ext cx="7608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форму имеет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ета Земля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5" name="Picture 8" descr="Картинка 57 из 156390"/>
          <p:cNvPicPr/>
          <p:nvPr/>
        </p:nvPicPr>
        <p:blipFill>
          <a:blip r:embed="rId1"/>
          <a:stretch/>
        </p:blipFill>
        <p:spPr>
          <a:xfrm>
            <a:off x="4464000" y="2565360"/>
            <a:ext cx="3168720" cy="316080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3"/>
          <p:cNvSpPr/>
          <p:nvPr/>
        </p:nvSpPr>
        <p:spPr>
          <a:xfrm>
            <a:off x="1619280" y="4145040"/>
            <a:ext cx="76089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5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8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31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258920" y="2637000"/>
            <a:ext cx="667368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мар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900000" y="907920"/>
            <a:ext cx="755964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го не превращался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язь Гвидон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1258920" y="3201840"/>
            <a:ext cx="66736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щуку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1255680" y="3929040"/>
            <a:ext cx="667404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мел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уху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26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1" name="Picture 8" descr="Картинка 8 из 161239"/>
          <p:cNvPicPr/>
          <p:nvPr/>
        </p:nvPicPr>
        <p:blipFill>
          <a:blip r:embed="rId1"/>
          <a:srcRect l="0" t="0" r="3054" b="0"/>
          <a:stretch/>
        </p:blipFill>
        <p:spPr>
          <a:xfrm>
            <a:off x="4416480" y="2421000"/>
            <a:ext cx="3313080" cy="3549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1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971280" y="907560"/>
            <a:ext cx="675324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ивотные не водятся в наших лесах?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042920" y="2319480"/>
            <a:ext cx="75438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йц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028880" y="4757760"/>
            <a:ext cx="75438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аф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26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5" name="Picture 7" descr="http://900igr.net/datai/o-zhivotnykh/CHto-edjat-zveri.files/0012-021-CHto-edjat-zveri.png"/>
          <p:cNvPicPr/>
          <p:nvPr/>
        </p:nvPicPr>
        <p:blipFill>
          <a:blip r:embed="rId1"/>
          <a:stretch/>
        </p:blipFill>
        <p:spPr>
          <a:xfrm>
            <a:off x="5299200" y="1454040"/>
            <a:ext cx="1915920" cy="44467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http://900igr.net/datai/o-zhivotnykh/CHto-edjat-zveri.files/0012-021-CHto-edjat-zveri.png"/>
          <p:cNvPicPr/>
          <p:nvPr/>
        </p:nvPicPr>
        <p:blipFill>
          <a:blip r:embed="rId2"/>
          <a:stretch/>
        </p:blipFill>
        <p:spPr>
          <a:xfrm>
            <a:off x="6443640" y="3670200"/>
            <a:ext cx="1081080" cy="2173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5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1046160" y="764640"/>
            <a:ext cx="7176960" cy="7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555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из этих птиц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1555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т летать?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155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1403280" y="2486160"/>
            <a:ext cx="75438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нгвин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ус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1422360" y="3789360"/>
            <a:ext cx="208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урок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1422360" y="4460760"/>
            <a:ext cx="75438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иц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1" name="Picture 8" descr="Картинка 66 из 36722"/>
          <p:cNvPicPr/>
          <p:nvPr/>
        </p:nvPicPr>
        <p:blipFill>
          <a:blip r:embed="rId1"/>
          <a:stretch/>
        </p:blipFill>
        <p:spPr>
          <a:xfrm>
            <a:off x="4657680" y="2146320"/>
            <a:ext cx="3359160" cy="3949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046160" y="765000"/>
            <a:ext cx="3597120" cy="53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Щур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большая северная лесная певчая птица семейства вьюрковых с ярко-красным оперением головы и груди (у самцов). Уменьш.щурок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1403280" y="2486160"/>
            <a:ext cx="75438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1422360" y="3789360"/>
            <a:ext cx="208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5" name="Picture 8" descr="Картинка 66 из 36722"/>
          <p:cNvPicPr/>
          <p:nvPr/>
        </p:nvPicPr>
        <p:blipFill>
          <a:blip r:embed="rId1"/>
          <a:stretch/>
        </p:blipFill>
        <p:spPr>
          <a:xfrm>
            <a:off x="4357800" y="1182600"/>
            <a:ext cx="4357440" cy="5124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й характеристику звукам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874440" y="442440"/>
            <a:ext cx="817236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ч] </a:t>
            </a: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щ] </a:t>
            </a: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ш] </a:t>
            </a: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ж] </a:t>
            </a: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5364000" y="2708280"/>
            <a:ext cx="208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УР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2340000" y="5373720"/>
            <a:ext cx="208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А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7380360" y="3933720"/>
            <a:ext cx="208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900000" y="3933720"/>
            <a:ext cx="208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2916360" y="2060640"/>
            <a:ext cx="208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У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5"/>
          <p:cNvSpPr/>
          <p:nvPr/>
        </p:nvSpPr>
        <p:spPr>
          <a:xfrm>
            <a:off x="900000" y="1214280"/>
            <a:ext cx="7543800" cy="3070440"/>
          </a:xfrm>
          <a:prstGeom prst="rect">
            <a:avLst/>
          </a:prstGeom>
          <a:noFill/>
          <a:ln w="0">
            <a:noFill/>
          </a:ln>
          <a:effectLst>
            <a:outerShdw dist="99192" dir="19218056" blurRad="0" rotWithShape="0">
              <a:srgbClr val="dede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Упражнение в написании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слов с буквами </a:t>
            </a:r>
            <a:r>
              <a:rPr b="1" i="1" lang="ru-RU" sz="4400" spc="-1" strike="noStrike">
                <a:solidFill>
                  <a:srgbClr val="ff0000"/>
                </a:solidFill>
                <a:latin typeface="Constantia"/>
              </a:rPr>
              <a:t>и, у, а</a:t>
            </a:r>
            <a:r>
              <a:rPr b="1" lang="ru-RU" sz="4400" spc="-1" strike="noStrike">
                <a:solidFill>
                  <a:srgbClr val="ff0000"/>
                </a:solidFill>
                <a:latin typeface="Constantia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после шипящи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900000" y="4005360"/>
            <a:ext cx="705672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5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7320" y="260280"/>
            <a:ext cx="377640" cy="45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юлькова С.П.</dc:creator>
  <dc:description/>
  <dc:language>en-US</dc:language>
  <cp:lastModifiedBy>user</cp:lastModifiedBy>
  <dcterms:modified xsi:type="dcterms:W3CDTF">2012-03-06T16:43:19Z</dcterms:modified>
  <cp:revision>55</cp:revision>
  <dc:subject>Гласные после шипящих</dc:subject>
  <dc:title>Русский язык</dc:title>
</cp:coreProperties>
</file>